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9B57-D92F-49A3-9240-28446FD40A49}"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6EAC-1C86-469F-A303-0DA3135AB859}"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915840" y="744480"/>
            <a:ext cx="4959360" cy="3719520"/>
          </a:xfrm>
          <a:prstGeom prst="rect">
            <a:avLst/>
          </a:prstGeom>
          <a:ln w="0">
            <a:noFill/>
          </a:ln>
        </p:spPr>
      </p:sp>
      <p:sp>
        <p:nvSpPr>
          <p:cNvPr id="128"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0A209-7FD5-4C62-BC1D-4FAE03563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CEE5-383B-4D16-B99B-B95834575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AC09C-E31E-4C77-8D5B-D368E4406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BE748-B1B3-4565-B419-0D8788408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0688EC-0C88-455B-9143-BA93EBBCAA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E0A4D-6DEC-456E-BF88-184C2968B4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3D1CEB-1C46-486E-A891-93E69DCA97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083A5-866D-4845-8D9D-0758F5031A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D17CF-C881-425F-8375-9923C6D784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03865-D0F8-408D-989D-E6E24FFBD90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1BA12-7FEF-41F7-93D3-13719E912C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7D39-87DC-4C91-A401-E3FA356C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62A02-5589-42BE-B0EE-494F9DD340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1B043-F7EC-4AB4-9598-7D02CDBA41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8E83E0-E898-4C63-B571-B2FFF9BECC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5D21B-3DAA-4631-A21A-6A362915DE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49C78C-729F-499C-B00B-F678D16E8F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91F99-3A81-4F70-A3B4-49FEFB78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1F2A-7764-49AD-A06D-017CF9AA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6321C-0C7F-40F3-9E4B-D0CF1203C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A278-5BA1-4CB1-83BC-E37FAA780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E082-7287-475D-AF60-FD0808EC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C5E97-A0C3-43CC-BAC0-52DDE6B23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6437-AC61-4027-8AC4-14FD07D73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D9F5-70EA-4C13-9630-3A80C0FC7605}"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BA62-E230-4C51-B8C3-F725D82B5A1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аудит</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жетті ақпаратты жинау мен жүйелеу аудиттелетін субъектіде және өзге де ұйымдарда жүргізіледі</a:t>
            </a:r>
            <a:endParaRPr b="0" lang="en-US" sz="3200" spc="-1" strike="noStrike">
              <a:solidFill>
                <a:srgbClr val="ffffff"/>
              </a:solidFill>
              <a:latin typeface="Tahoma"/>
            </a:endParaRPr>
          </a:p>
        </p:txBody>
      </p:sp>
      <p:sp>
        <p:nvSpPr>
          <p:cNvPr id="106" name="Rectangle 3"/>
          <p:cNvSpPr/>
          <p:nvPr/>
        </p:nvSpPr>
        <p:spPr>
          <a:xfrm>
            <a:off x="457200" y="1844640"/>
            <a:ext cx="8229600" cy="4464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қпарат құрамына:</a:t>
            </a:r>
            <a:r>
              <a:rPr b="0" lang="ru-RU"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мәселелері жөніндегі нормативтік құқықтық актілердің аудиттелетін субъектінің қызметіне қатысты талаптары;</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телетін субъект орналасқан ауданның картасы және карта-схемасы;</a:t>
            </a:r>
            <a:r>
              <a:rPr b="0" lang="ru-RU"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егер бар болса, аэрофотосуреттердің нәтижелері;</a:t>
            </a:r>
            <a:endParaRPr b="0" lang="en-US" sz="2400" spc="-1" strike="noStrike">
              <a:solidFill>
                <a:srgbClr val="ffffff"/>
              </a:solidFill>
              <a:latin typeface="Tahoma"/>
            </a:endParaRPr>
          </a:p>
          <a:p>
            <a:pPr marL="329040" indent="-3290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телетін субъектіні басқарудың әкімшілік құрылымы;</a:t>
            </a:r>
            <a:r>
              <a:rPr b="0" lang="ru-RU"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егер бар болса, аудиттелетін субъектідегі қоршаған ортаны қорғау қызметі туралы ереже және т.б.</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549000"/>
            <a:ext cx="8229600" cy="5398920"/>
          </a:xfrm>
          <a:prstGeom prst="rect">
            <a:avLst/>
          </a:prstGeom>
          <a:noFill/>
          <a:ln w="0">
            <a:noFill/>
          </a:ln>
        </p:spPr>
        <p:txBody>
          <a:bodyPr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Аудиттелетін субъектіні қарап тексеру және оның қызметкерлеріне сауал жүргізу құжаттаманың аудиттелетін субъектінің нақты жай-күйіне сәйкес келуін бағалау, аудиттелетін субъект мамандарының біліктілігін айқындау, аудиттелетін субъект қызметінің тиімділігін жақсарту үшін ұсыныстар әзірлеу мақсатында жүргізілед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рап тексеру барысында:</a:t>
            </a:r>
            <a:endParaRPr b="0" lang="en-US" sz="3200" spc="-1" strike="noStrike">
              <a:solidFill>
                <a:srgbClr val="ffffff"/>
              </a:solidFill>
              <a:latin typeface="Tahoma"/>
            </a:endParaRPr>
          </a:p>
        </p:txBody>
      </p:sp>
      <p:sp>
        <p:nvSpPr>
          <p:cNvPr id="109" name="Rectangle 3"/>
          <p:cNvSpPr/>
          <p:nvPr/>
        </p:nvSpPr>
        <p:spPr>
          <a:xfrm>
            <a:off x="457200" y="907920"/>
            <a:ext cx="8229600" cy="5400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аудиттелетін субъектінің жоспар-схемаға және жалпы технологиялық сипаттамаға сәйкес келуі;</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аудиттелетін субъектінің құжаттамасында қоршаған ортаға әсер ету көздері көрсетілуінің толымдылығы;</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аудиттелетін субъектінің ықтимал әсер ету аумағының жай-күйі;</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қоршаған ортаға ықтимал әсер ету туралы құ-жаттамаға енгізілмеген мән-жайлардың болуы;</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өндірістік объектілерде есепке алу және өзге де қажетті құжаттаманың болуы мен толымдылығы;</a:t>
            </a:r>
            <a:r>
              <a:rPr b="0" lang="ru-RU" sz="2300" spc="-1" strike="noStrike">
                <a:solidFill>
                  <a:srgbClr val="ffffff"/>
                </a:solidFill>
                <a:latin typeface="Tahoma"/>
              </a:rPr>
              <a:t> </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объектіні пайдалану процесінде қоршаған ортаны қорғау жөніндегі техникалық талаптардың сақталуы;</a:t>
            </a:r>
            <a:endParaRPr b="0" lang="en-US" sz="2300" spc="-1" strike="noStrike">
              <a:solidFill>
                <a:srgbClr val="ffffff"/>
              </a:solidFill>
              <a:latin typeface="Tahoma"/>
            </a:endParaRPr>
          </a:p>
          <a:p>
            <a:pPr marL="335880" indent="-335880">
              <a:lnSpc>
                <a:spcPct val="8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ahoma"/>
              </a:rPr>
              <a:t>өндірістік экологиялық бақылауды жүргізуге қойылатын талаптардың сақталуы анықталуға тиіс.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Tahoma"/>
              </a:rPr>
              <a:t>Аудиттелетін субъектінің қызметкерлерінe сауал қою барысында:</a:t>
            </a:r>
            <a:endParaRPr b="0" lang="en-US" sz="3000" spc="-1" strike="noStrike">
              <a:solidFill>
                <a:srgbClr val="ffffff"/>
              </a:solidFill>
              <a:latin typeface="Tahoma"/>
            </a:endParaRPr>
          </a:p>
        </p:txBody>
      </p:sp>
      <p:sp>
        <p:nvSpPr>
          <p:cNvPr id="111" name="Rectangle 3"/>
          <p:cNvSpPr/>
          <p:nvPr/>
        </p:nvSpPr>
        <p:spPr>
          <a:xfrm>
            <a:off x="457200" y="126828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үшін мәні бар мәселелер бойынша қызметкерлердің біліктілік деңгейі;</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есептілік құжаттаманы жүргізудің объективті болуын растау үшін қажетті ақпарат;</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жөніндегі нормативтік құқықтық актілер талаптарының бұзылу жағдайлары және оларды болдырмау жөніндегі шаралар туралы мәліметтер;</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телетін субъектінің болашақта шаруашылық және өзге де қызметті одан әрі жүзеге асыруы кезінде экологиялық талаптардың бұзылу ықтималдығы;</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ды жетілдіру жөніндегі инженерлік бастамалардың болуы анықталуға тиі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88640"/>
            <a:ext cx="86421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Tahoma"/>
              </a:rPr>
              <a:t>Арнайы зерттеулерді экологиялық аудиторлар мен экологиялық аудиторлық ұйымдар мынадай жағдайда:</a:t>
            </a:r>
            <a:endParaRPr b="0" lang="en-US" sz="3000" spc="-1" strike="noStrike">
              <a:solidFill>
                <a:srgbClr val="ffffff"/>
              </a:solidFill>
              <a:latin typeface="Tahoma"/>
            </a:endParaRPr>
          </a:p>
        </p:txBody>
      </p:sp>
      <p:sp>
        <p:nvSpPr>
          <p:cNvPr id="113" name="Rectangle 3"/>
          <p:cNvSpPr/>
          <p:nvPr/>
        </p:nvSpPr>
        <p:spPr>
          <a:xfrm>
            <a:off x="395280" y="2060640"/>
            <a:ext cx="82296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стік экологиялық бақылауды жүргізу жөніндегі  есептілікті растау қажет болғанда;</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ға әсердің құжаттамаға енгізілмеген көздері анықталғанда;</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 қызметінің қоршаған ортаға және халықтың денсаулық жағдайына теріс әсер ету салдарлары туралы мән-жайлар болғанда жүргізед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жет болғанда, зерттеулер:</a:t>
            </a:r>
            <a:endParaRPr b="0" lang="en-US" sz="3200" spc="-1" strike="noStrike">
              <a:solidFill>
                <a:srgbClr val="ffffff"/>
              </a:solidFill>
              <a:latin typeface="Tahoma"/>
            </a:endParaRPr>
          </a:p>
        </p:txBody>
      </p:sp>
      <p:sp>
        <p:nvSpPr>
          <p:cNvPr id="115" name="Rectangle 3"/>
          <p:cNvSpPr/>
          <p:nvPr/>
        </p:nvSpPr>
        <p:spPr>
          <a:xfrm>
            <a:off x="457200" y="907920"/>
            <a:ext cx="8229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шығарындылар (төгінділер) көздерінде жүргізілетін өлшеулерді, қалдықтар үлгілерін зерттеуді;</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ықпалды әсер ету аймағында қоршаған ортаның ластануын өлшеулерді;</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ықпалды әсер ету аймағында қоршаған ортаның ластануын өлшеулерд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рнайы зерттеулерді жүргізу үшін қоршаған ортаның жай-күйін айқындайтын аккредиттелген зертханалар тартылуға тиіс.</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864216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удиттелетін субъектінің экологиялық тәуекелдерін айқындау:</a:t>
            </a:r>
            <a:endParaRPr b="0" lang="en-US" sz="3200" spc="-1" strike="noStrike">
              <a:solidFill>
                <a:srgbClr val="ffffff"/>
              </a:solidFill>
              <a:latin typeface="Tahoma"/>
            </a:endParaRPr>
          </a:p>
        </p:txBody>
      </p:sp>
      <p:sp>
        <p:nvSpPr>
          <p:cNvPr id="117" name="Rectangle 3"/>
          <p:cNvSpPr/>
          <p:nvPr/>
        </p:nvSpPr>
        <p:spPr>
          <a:xfrm>
            <a:off x="395280" y="148428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құжаттама мен есептердің байқалатын ағымдағы жай-күйге сәйкестігін талдау;</a:t>
            </a:r>
            <a:endParaRPr b="0" lang="en-US" sz="2600" spc="-1" strike="noStrike">
              <a:solidFill>
                <a:srgbClr val="ffffff"/>
              </a:solidFill>
              <a:latin typeface="Tahoma"/>
            </a:endParaRPr>
          </a:p>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телетін субъект қызметінің өсімдіктерге, жануарлар дүниесіне, экожүйелерге және халық денсаулығының жай-күйіне ықтимал салдарларын бағалау, соның ішінде қоршаған орта сапасының бұзылуынан туындаған аурулар мен өлім-жітім жағдайларын талдау;</a:t>
            </a:r>
            <a:r>
              <a:rPr b="0" lang="ru-RU" sz="2600" spc="-1" strike="noStrike">
                <a:solidFill>
                  <a:srgbClr val="ffffff"/>
                </a:solidFill>
                <a:latin typeface="Tahoma"/>
              </a:rPr>
              <a:t> </a:t>
            </a:r>
            <a:endParaRPr b="0" lang="en-US" sz="2600" spc="-1" strike="noStrike">
              <a:solidFill>
                <a:srgbClr val="ffffff"/>
              </a:solidFill>
              <a:latin typeface="Tahoma"/>
            </a:endParaRPr>
          </a:p>
          <a:p>
            <a:pPr marL="343080" indent="-3430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қоршаған орта үшін теріс салдарларға әкеп соғуы мүмкін аудиттелетін субъектідегі авариялық жағдайлардың ықтималдылығын немесе технологиялық регламенттен өзге де ауытқуларды айқындау жолымен жүргізіледі.</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9000"/>
            <a:ext cx="8642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удиттелетін субъектінің экологиялық қауіпсіздігі деңгейін арттыру жөніндегі ұсыныстарды әзірлеу:</a:t>
            </a:r>
            <a:endParaRPr b="0" lang="en-US" sz="3200" spc="-1" strike="noStrike">
              <a:solidFill>
                <a:srgbClr val="ffffff"/>
              </a:solidFill>
              <a:latin typeface="Tahoma"/>
            </a:endParaRPr>
          </a:p>
        </p:txBody>
      </p:sp>
      <p:sp>
        <p:nvSpPr>
          <p:cNvPr id="119" name="Rectangle 3"/>
          <p:cNvSpPr/>
          <p:nvPr/>
        </p:nvSpPr>
        <p:spPr>
          <a:xfrm>
            <a:off x="395280" y="1844640"/>
            <a:ext cx="8229600" cy="43927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сы сияқты объектілер үшін пайдаланылатын ең үздік қолжетімді технологияларды;</a:t>
            </a:r>
            <a:r>
              <a:rPr b="0" lang="ru-RU"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қорғауды басқару жүйесін жақсарту жөніндегі ықтимал шараларды;</a:t>
            </a:r>
            <a:r>
              <a:rPr b="0" lang="ru-RU"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стік экологиялық бақылауды жетілдіру тәсілдерін;</a:t>
            </a:r>
            <a:r>
              <a:rPr b="0" lang="ru-RU"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лық нормативтер мен талаптарды өзгерту жөніндегі ұсыныстарды зерделеу негізінде жүргізілед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89000"/>
            <a:ext cx="8642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Міндетті экологиялық аудитті жүргізу туралы шешім</a:t>
            </a:r>
            <a:endParaRPr b="0" lang="en-US" sz="3200" spc="-1" strike="noStrike">
              <a:solidFill>
                <a:srgbClr val="ffffff"/>
              </a:solidFill>
              <a:latin typeface="Tahoma"/>
            </a:endParaRPr>
          </a:p>
        </p:txBody>
      </p:sp>
      <p:sp>
        <p:nvSpPr>
          <p:cNvPr id="121" name="Rectangle 3"/>
          <p:cNvSpPr/>
          <p:nvPr/>
        </p:nvSpPr>
        <p:spPr>
          <a:xfrm>
            <a:off x="468360" y="1484280"/>
            <a:ext cx="8229600" cy="48243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індетті экологиялық аудитті жүргізу туралы шешімді қоршаған ортаны қорғау саласындағы уәкілетті орган бір ай мерзім ішінде қабылдайды. Міндетті аудит жүргізу туралы шешім міндетті экологиялық аудит туралы қорытынды түрінде ресімделеді. Міндетті экологиялық аудит туралы қорытындының нысанын қоршаған ортаны қорғау саласындағы уәкілетті орган бекітед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88640"/>
            <a:ext cx="86421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орытындыда:</a:t>
            </a:r>
            <a:endParaRPr b="0" lang="en-US" sz="3200" spc="-1" strike="noStrike">
              <a:solidFill>
                <a:srgbClr val="ffffff"/>
              </a:solidFill>
              <a:latin typeface="Tahoma"/>
            </a:endParaRPr>
          </a:p>
        </p:txBody>
      </p:sp>
      <p:sp>
        <p:nvSpPr>
          <p:cNvPr id="123" name="Rectangle 3"/>
          <p:cNvSpPr/>
          <p:nvPr/>
        </p:nvSpPr>
        <p:spPr>
          <a:xfrm>
            <a:off x="395280" y="981000"/>
            <a:ext cx="8229600" cy="5400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тегі, аты, әкесінің аты немесе толық атауы;</a:t>
            </a: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орналасқан жері;</a:t>
            </a: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аудиттелетін субъектінің шаруашылық және өзге де қызметімен байланысты қоршаған орта үшін ықтимал тәуекелдердің сипаты;</a:t>
            </a:r>
            <a:r>
              <a:rPr b="0"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індетті экологиялық аудитті жүргізуге негіз;</a:t>
            </a: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3394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міндетті экологиялық аудиттің қорытындысын қоршаған ортаны қорғау саласындағы уәкілетті органға табыс ету мерзімі көрсетілуге тиіс.</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 туралы түсінік</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324000" y="1905120"/>
            <a:ext cx="8362800" cy="4114800"/>
          </a:xfrm>
          <a:prstGeom prst="rect">
            <a:avLst/>
          </a:prstGeom>
          <a:noFill/>
          <a:ln w="0">
            <a:noFill/>
          </a:ln>
        </p:spPr>
        <p:txBody>
          <a:bodyPr anchor="t">
            <a:norm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ff"/>
                </a:solidFill>
                <a:latin typeface="Tahoma"/>
              </a:rPr>
              <a:t>Экологиялық аудитормен немесе экологиялық аудиторлық ұйыммен экологиялық аудит жүргізуге шарт жасасқан жеке немесе заңды тұлға аудиттелетін субъект болып табылады.Экологиялық аудит аудиттелетін субъектілердің қоршаған ортаға әсер ету туралы есептілігіне талдау жасау жолымен жүргізіледі</a:t>
            </a:r>
            <a:r>
              <a:rPr b="0" lang="ru-RU"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980640"/>
            <a:ext cx="8229600" cy="475164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індетті экологиялық аудит туралы қорытынды аудиттелетін субъектінің басшысына жолданады.</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індетті экологиялық аудит аудиттелетін субъект міндетті  экологиялық аудит туралы қорытындыны алған кезден бастап алты айдан аспайтын мерзімде жүргізілед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980640"/>
            <a:ext cx="8229600" cy="475164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аудитор немесе экологиялық аудиторлық ұйым аудит жүргізудің жоспарын әзірлеу үшін міндетті экологиялық аудит туралы қорытындымен, аудитті жүргізу негіздемесімен, аудиттелетін субъектіге тән экологиялық проблемалармен және өзге де аспектілермен танысад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ті жүргізу кезінде:</a:t>
            </a:r>
            <a:endParaRPr b="0" lang="en-US" sz="3200" spc="-1" strike="noStrike">
              <a:solidFill>
                <a:srgbClr val="ffffff"/>
              </a:solidFill>
              <a:latin typeface="Tahoma"/>
            </a:endParaRPr>
          </a:p>
        </p:txBody>
      </p:sp>
      <p:sp>
        <p:nvSpPr>
          <p:cNvPr id="95" name="Rectangle 3"/>
          <p:cNvSpPr/>
          <p:nvPr/>
        </p:nvSpPr>
        <p:spPr>
          <a:xfrm>
            <a:off x="457200" y="1557360"/>
            <a:ext cx="8229600" cy="475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оршаған ортаға әсер туралы ұсынылған есептіліктің дұрыстығын тексеру;</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технологиялық процестің экологиялық талаптарға сәйкес келуін бағалау;</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 пен бақылау жүйесінің экологиялық талаптарға сәйкес келуін бағала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ызметкерлердің біліктілік деңгейін бағалау мақсатында арнайы зерттеулер мен өлшемдер жасалуы мүмкі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765000"/>
            <a:ext cx="8229600" cy="5399280"/>
          </a:xfrm>
          <a:prstGeom prst="rect">
            <a:avLst/>
          </a:prstGeom>
          <a:noFill/>
          <a:ln w="0">
            <a:noFill/>
          </a:ln>
        </p:spPr>
        <p:txBody>
          <a:bodyPr anchor="t">
            <a:normAutofit fontScale="98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ff"/>
                </a:solidFill>
                <a:latin typeface="Tahoma"/>
              </a:rPr>
              <a:t>Экологиялық аудиторлар, экологиялық аудиторлық ұйымдар және аудиттелетін субъектілер арасындағы қарым-қатынастар Қазақстан Республикасының азаматтық заңнамасына сәйкес экологиялық аудит жүргізуге арналған шарттың негізінде туындайды. Міндетті аудит және бастамашылық аудит экологиялық аудиттің түрлері болып табылады.</a:t>
            </a:r>
            <a:r>
              <a:rPr b="1" lang="ru-RU"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0000"/>
                </a:solidFill>
                <a:latin typeface="Tahoma"/>
              </a:rPr>
              <a:t>Жеке және заңды тұлғаларға қатысты міндетті экологиялық аудит жүргізуге:</a:t>
            </a:r>
            <a:endParaRPr b="0" lang="en-US" sz="3000" spc="-1" strike="noStrike">
              <a:solidFill>
                <a:srgbClr val="ffffff"/>
              </a:solidFill>
              <a:latin typeface="Tahoma"/>
            </a:endParaRPr>
          </a:p>
        </p:txBody>
      </p:sp>
      <p:sp>
        <p:nvSpPr>
          <p:cNvPr id="98" name="Rectangle 3"/>
          <p:cNvSpPr/>
          <p:nvPr/>
        </p:nvSpPr>
        <p:spPr>
          <a:xfrm>
            <a:off x="457200" y="1916280"/>
            <a:ext cx="8229600" cy="4392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жеке және заңды тұлғалардың шаруашылық және өзге де қызметінен қоршаған ортаға келтірілген, құжат бойынша расталған елеулі залал;</a:t>
            </a:r>
            <a:r>
              <a:rPr b="1" lang="ru-RU" sz="2400" spc="-1" strike="noStrike">
                <a:solidFill>
                  <a:srgbClr val="ffffff"/>
                </a:solidFill>
                <a:latin typeface="Tahoma"/>
              </a:rPr>
              <a:t> </a:t>
            </a:r>
            <a:endParaRPr b="0" lang="en-US" sz="2400" spc="-1" strike="noStrike">
              <a:solidFill>
                <a:srgbClr val="ffffff"/>
              </a:solidFill>
              <a:latin typeface="Tahoma"/>
            </a:endParaRPr>
          </a:p>
          <a:p>
            <a:pPr marL="332640" indent="-3326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шаруашылық және өзге де қызметтің экологиялық қауіпті түрлерін жүзеге асыратын табиғат пайдаланушыны заңды тұлғаны қосу, бөлу және бөліп шығару түрінде қайта ұйымдастыру; </a:t>
            </a:r>
            <a:endParaRPr b="0" lang="en-US" sz="2400" spc="-1" strike="noStrike">
              <a:solidFill>
                <a:srgbClr val="ffffff"/>
              </a:solidFill>
              <a:latin typeface="Tahoma"/>
            </a:endParaRPr>
          </a:p>
          <a:p>
            <a:pPr marL="332640" indent="-3326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шаруашылық және өзге де қызметтің экологиялық қауіпті түрлерін жүзеге асыратын табиғат пайдаланушы - заңды тұлғалардың банкроттыққа ұшырауы негіз болып табыла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549000"/>
            <a:ext cx="8229600" cy="5398920"/>
          </a:xfrm>
          <a:prstGeom prst="rect">
            <a:avLst/>
          </a:prstGeom>
          <a:noFill/>
          <a:ln w="0">
            <a:noFill/>
          </a:ln>
        </p:spPr>
        <p:txBody>
          <a:bodyPr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Бастамашылық экологиялық аудит бастамашының және экологиялық аудитордың немесе экологиялық аудиторлық ұйымның арасындағы экологиялық аудитті жүргізуге арналған шартта көзделген экологиялық аудиттің нақты міндеттері, мерзімдері мен көлемі ескеріле отырып, аудиттелетін субъектінің не оған қатысушының бастамасы бойынша жүргізілед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557360"/>
            <a:ext cx="8229600" cy="37432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үдделі жеке және (немесе) заңды тұлғалар, сақтандыру ұйымдары, инвесторлар, қоршаған ортаны қорғау саласындағы уәкілетті орган және өзге де мемлекеттік органдар экологиялық аудитке тапсырыс берушілер болуы мүмкі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ті жүргізу тәртібі</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324000" y="1905120"/>
            <a:ext cx="8362800" cy="411480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аудит экологиялық аудитті жүргізу жоспарына сәйкес жүргізіледі және ол тапсырыс берушімен және аудиттелетін субъектімен келісіледі. Экологиялық аудит жүргізуді жоспарлау кезінде тараптар экологиялық аудиторлар палатасы бекіткен, ұсынымдық сипатта болатын экологиялық аудитті жүргізу жоспарының үлгілік нысанын басшылыққа алады</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аудитті жүргізудің сатылары мыналар:</a:t>
            </a:r>
            <a:endParaRPr b="0" lang="en-US" sz="3200" spc="-1" strike="noStrike">
              <a:solidFill>
                <a:srgbClr val="ffffff"/>
              </a:solidFill>
              <a:latin typeface="Tahoma"/>
            </a:endParaRPr>
          </a:p>
        </p:txBody>
      </p:sp>
      <p:sp>
        <p:nvSpPr>
          <p:cNvPr id="104" name="Rectangle 3"/>
          <p:cNvSpPr/>
          <p:nvPr/>
        </p:nvSpPr>
        <p:spPr>
          <a:xfrm>
            <a:off x="457200" y="1557360"/>
            <a:ext cx="8229600" cy="4751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телетін субъектімен алдын ала танысу</a:t>
            </a:r>
            <a:r>
              <a:rPr b="1" lang="kk-KZ" sz="2600" spc="-1" strike="noStrike">
                <a:solidFill>
                  <a:srgbClr val="ffffff"/>
                </a:solidFill>
                <a:latin typeface="Tahoma"/>
              </a:rPr>
              <a:t>;</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 жүргізу жоспарын әзірле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қажетті ақпаратты жинау және жүйелеу;</a:t>
            </a:r>
            <a:r>
              <a:rPr b="0" lang="ru-RU" sz="2600" spc="-1" strike="noStrike">
                <a:solidFill>
                  <a:srgbClr val="ffffff"/>
                </a:solidFill>
                <a:latin typeface="Tahoma"/>
              </a:rPr>
              <a:t> </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удиттелетін субъектіні қарап тексеру және оның қызметкерлеріне сауал жүргізу;</a:t>
            </a:r>
            <a:r>
              <a:rPr b="0" lang="ru-RU" sz="2600" spc="-1" strike="noStrike">
                <a:solidFill>
                  <a:srgbClr val="ffffff"/>
                </a:solidFill>
                <a:latin typeface="Tahoma"/>
              </a:rPr>
              <a:t> </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рнайы зерттеулер көлемін айқында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арнайы зерттеулер жүргіз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экологиялық тәуекелдерді айқында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экологиялық қауіпсіздік деңгейін арттыру жөнінде ұсыныстар әзірлеу;</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ahoma"/>
              </a:rPr>
              <a:t>экологиялық аудиторлық есеп жасау болып табылады. </a:t>
            </a:r>
            <a:endParaRPr b="0" lang="en-US" sz="2600" spc="-1" strike="noStrike">
              <a:solidFill>
                <a:srgbClr val="ffffff"/>
              </a:solidFill>
              <a:latin typeface="Tahoma"/>
            </a:endParaRPr>
          </a:p>
          <a:p>
            <a:pPr marL="332640" indent="-33264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8T04:51:45Z</dcterms:modified>
  <cp:revision>203</cp:revision>
  <dc:subject/>
  <dc:title>Заголовок слайда отсутствует</dc:title>
</cp:coreProperties>
</file>